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63A-CB01-4108-9739-006ADA5A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388-9DF3-4586-8ADF-D33DE40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C1F-3AAD-4F90-AC80-C13D666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AB9-7D30-4444-BB55-6BB41D8C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3D6-ED9E-43B7-B6BF-0C1F838A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7BD0-28D2-46FF-96F1-3395075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652-7E6B-40B3-9C1E-7C49C14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AA7-C646-4E41-A89C-7439495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BFE-8BD8-44D4-8495-147CF34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FE0D-FBBC-4EF5-A390-7240F070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138-F758-4A61-94FD-28CECD5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068-DB65-4D83-A139-EA6BF9E6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4137-CA2F-4DE7-8807-0C986D5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A1D-297A-4179-B180-78299C3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D68-6BA7-4B64-9122-2417E68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F15-C725-4B03-A72C-0EB055AD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9A3-49F4-4750-8EFC-C4476ECA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7FF-47E0-4E9E-9AD7-EB1F3C0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C2F-9981-456D-B193-5130DA87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0D1-DAF8-4C75-BBDB-A50368BB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E1E-05B3-4ED8-AD0C-416B511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97E-5825-4555-955D-E5E70AA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9DB-FB67-4887-B554-09E47FD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2D7-F3D5-4C3E-BE99-3D89331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B1B8-EBFC-44EB-A3EB-01B74E4F6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4"/>
          <a:srcRect l="20416" t="0" r="0" b="0"/>
          <a:stretch/>
        </p:blipFill>
        <p:spPr>
          <a:xfrm>
            <a:off x="0" y="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4A2-1D52-4BD4-9120-BCFD15FDA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965160"/>
            <a:ext cx="3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280" y="1809720"/>
            <a:ext cx="58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270400"/>
            <a:ext cx="324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Me llamo ________ Clase 8IM</a:t>
            </a:r>
            <a:br>
              <a:rPr sz="4000"/>
            </a:b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La fecha es el 14 de marzo del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Times New Roman"/>
              </a:rPr>
              <a:t>Propósito # 46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ctividad Inicial: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r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z 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4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 13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Repaso de la Tarea #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; p. 4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.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that en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ings in all forms 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otr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vosotr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otr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ing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s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ding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s is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. 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 viv___ en California y asist___ a una escuela secundaria. Yo aprend___ mucho en la escu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Repaso de la Tarea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Nosotros no viv______ en California. Viv____ en Texas y asist______ a una escuela secundaria en Texas. Aprend______ mucho. Y recib_____ notas bu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arlos va al café. En el café el v___ una mesa libre y v___ al mesero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abr___ el menu y le___. Él tiene hambre y com____ una hamburguesa con papas fri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los estan en un restaurante mexicano. Le___ el menu. El menu es en espanol pero ellos comprend____ el menu porque aprend____ espanol en la escuela. Ellos tien____ hambre y com____ tacos de carne y enchiladas de queso. Tien_____ sed tambien y beb_____ un bat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Repaso de la Tarea #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.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vo en Nueva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oros 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s aprenden espanol. En clase ellos leen y escriben mucho. Y reciben notas bue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Repaso de la Tarea #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 una mesa li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os 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Leo el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os  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Yo abro el menu y leo el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os y yo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Comprende lo que apre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s 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O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. 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523880"/>
            <a:ext cx="6858000" cy="525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Nomb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Calle/Ave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Pueblo/Ciu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Zona po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P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. 1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un companero,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. 138 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a p. 4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Repaso de los 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jercicio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om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beb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tienes sed, ¿bebes agua caliente o agua frí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ees mu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Recibes muchos correos electrónic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escuela asis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 aprendes en la escuel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Repaso de los 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rcicio 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32:11Z</dcterms:created>
  <dc:creator>Helen Zumaeta</dc:creator>
  <dc:description/>
  <dc:language>en-US</dc:language>
  <cp:lastModifiedBy>Helen Zumaeta</cp:lastModifiedBy>
  <dcterms:modified xsi:type="dcterms:W3CDTF">2011-03-14T00:46:55Z</dcterms:modified>
  <cp:revision>2</cp:revision>
  <dc:subject/>
  <dc:title>Me llamo ________ Clase 8IM La fecha es el 14 de marzo del 2011</dc:title>
</cp:coreProperties>
</file>